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C1F-586F-487E-995F-4BDEB6F7D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а урока: «Сказочные образы в творчеств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а урока: «Сказочные образы в творчестве русских композиторов»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Баба-яг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 Бабы-Я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Волшебное озер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Кикимо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 Киким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лай Андреевич Римский-Корса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ш интегрированный урок подошёл к кон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 «Снегур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я Снегур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 «Снегуроч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лий Константинович Л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лий Константинович Л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зочные картин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F7A-E32C-460D-8471-2A36BB7A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8DE-208E-44E8-9CF3-3154ADC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C89-8044-46E5-A6F4-7A07FFDC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781-A861-4A84-B3C3-71A586EA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09D-CCE7-4D1D-B13F-7012943D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FFB-D760-44A4-A8E6-1F22CBE6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0A3-E704-416E-AFFA-C69E4A0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2240-6FEA-44E7-A7FD-66C86C70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828-1E8F-4C42-9E14-F7C8E9CA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8A94-A91D-46C5-9B02-31364E6F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E31-E071-4E82-B8EB-B30EE8D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143-BADA-464A-9A8F-5BE6AC3D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8EC-3036-41D6-BA11-62EC82DE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4120" y="1370520"/>
            <a:ext cx="71697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«Сказочные образы в творче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усских композитор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«Баба-яга» Лядов"/>
          <p:cNvPicPr/>
          <p:nvPr/>
        </p:nvPicPr>
        <p:blipFill>
          <a:blip r:embed="rId1"/>
          <a:stretch/>
        </p:blipFill>
        <p:spPr>
          <a:xfrm>
            <a:off x="2514600" y="2286000"/>
            <a:ext cx="4095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«Волшебное озеро» Лядов"/>
          <p:cNvPicPr/>
          <p:nvPr/>
        </p:nvPicPr>
        <p:blipFill>
          <a:blip r:embed="rId1"/>
          <a:stretch/>
        </p:blipFill>
        <p:spPr>
          <a:xfrm>
            <a:off x="2523960" y="2238480"/>
            <a:ext cx="4096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23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«Кикимора» Лядов"/>
          <p:cNvPicPr/>
          <p:nvPr/>
        </p:nvPicPr>
        <p:blipFill>
          <a:blip r:embed="rId1"/>
          <a:stretch/>
        </p:blipFill>
        <p:spPr>
          <a:xfrm>
            <a:off x="2057400" y="2286000"/>
            <a:ext cx="533412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66920" cy="3047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иколай Андреевич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мский-Корса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23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колай Римский-Корса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06692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 «Снегурочк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я Снегуроч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38120" y="95400"/>
            <a:ext cx="100202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казочные картин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3T20:04:09Z</dcterms:created>
  <dc:creator>1й</dc:creator>
  <dc:description/>
  <dc:language>en-US</dc:language>
  <cp:lastModifiedBy>1й</cp:lastModifiedBy>
  <dcterms:modified xsi:type="dcterms:W3CDTF">2022-11-20T08:28:3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